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C445-60D5-4035-B32F-3C41EBE84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4E24-D748-4BBF-A6CD-028E3B0E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0831A5-D48E-4C6C-A019-519C13A8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ACD91-B7D7-46A5-B0F9-D2BD8A3F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87AE7-39E9-4A35-9315-032FBCC4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C1A78-69D3-4007-BA9E-B67246C1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14671-992B-4CC6-BAD6-D1006F2B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AE1D9-2D81-43A5-92CA-E02C324C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9C00B-FD59-4669-9A55-EEACAFC1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0AD83-163F-4F82-BFA6-E3CB1A315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86A49-A5F3-4D94-8DEE-3956715C1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AB1D8-2349-42B8-87B3-A562EFE8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1598-0532-4AA8-A925-C2FA7E5C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F4C72-7E94-4142-80EE-0C3828E0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84915-0AFF-44DB-8E82-4204022D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FEAAE-55BF-4175-9531-4BBBA10D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3DAE90-5873-4002-AF80-BBD66A22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3A5EA9-FA92-4A9E-9F21-E5F1F1E2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A57248-0FE8-4433-9D23-EFA2CF7C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8F9C4-D14B-4B22-98C6-5D657F96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C2E561-875D-45AF-A8B1-02AFA764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BFA5F-FD35-4661-8EEB-6EAF4990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4264D1-406F-4384-9F3D-CA73593B7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E672-6DF6-4732-B16F-0FFCD9AA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59AE6A-6EE1-472A-A962-F9A2E3425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84E8E-E359-4F4D-906B-335DDF57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33652-BD21-465B-B336-41FF674C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3604F-58AE-4EFC-A543-D5B9E51B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FFDCE-A4BC-4612-A66D-BD667A5D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23408-A7FF-4863-82F4-A4A369D5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7707E-3247-49B5-8F2C-6FF7F0BB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9AC34-6BCA-4075-A6AD-EB20B779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96FBD-5F61-4FF2-85C8-7099C6F1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047FC-9096-4667-988B-CBA14C56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F43B-CF37-4779-B16A-CF74A647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98B05-4E9D-4AC5-B79C-0722E2EC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F9938-648B-4DD6-B519-7519596A7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96128-3BEE-4D33-A712-B338148AE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2C8AB5-00C8-4097-806D-0FA4C5908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0EBC40-9AB1-4286-A8FB-8D77F82B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C8B54A-512E-4D11-9A02-F017FC16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5991E2-21C9-4FAD-8F3B-D7C3DD34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15ABB9-91C9-4D70-9937-98E13694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839E3-1387-4F41-A910-BF378F94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D7F78A-5E15-4633-A4ED-5A88C57E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AE7A-BF0A-4B7E-968D-D3F55F5B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E7A4B2-4E71-4D86-A996-AB34CFD8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F1145-C59B-443C-BBE7-C52FA66B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953B9E-39EC-458A-B3AD-B5A1BEAD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8A059F-2A56-4758-B779-CFD503DEC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213D62-BD2B-4770-84B5-FFB079D54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7EF8F7-7EFB-4D92-8395-1DA7062B2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6229B6-039B-4BF6-A4E7-603AD639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5F5B4B-7105-47CF-BEF6-8B550335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CDB048-0EB2-4AAE-B25F-FDFA1351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9E1059-BC11-402E-B2AD-DECBF988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4F8E-7D53-44AF-8570-B4FB8724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034FF6-7119-484D-BF43-80F96C6E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8A9087-9744-4A97-B41D-A1188C8A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E2C08F-2CAF-44D6-8BB8-B9E3D63A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A14B35-CE2B-4F64-9A36-93FB2052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6018FA-642B-477A-9B81-911F74AF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640467-2718-400F-A7B0-7CB3772D4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2C411A-367A-40D7-9BC2-B0B90B9A7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04E2CC-7A26-4A8D-8C91-509BB0641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15B5A0-79B6-428A-A03C-10E85633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B48336-7FBE-4997-B2C1-BE4E542D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6982-8D87-4106-BF92-B39CBC19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CDA068-699F-44A8-9FA3-3B1D680F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D0BC19-E92A-4B75-B739-5CE62E0D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626D9F-98E9-437B-94DB-AE69BF67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4EA645-4758-4A8B-8299-101933BF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924736-BF3F-4572-813C-B8C0D426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525869-816C-4438-AD4A-41B1F93F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53B6ED-3E45-4D06-ADE6-DF4925D3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C0640C-3C96-4A6C-8AC9-B7241455B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17DBC1-663A-4E89-9AA0-692CD5B59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790A42-1A9D-472A-BD67-84F88F06C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B458-5EA3-4CA0-ADE3-27AB4CFE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885CAA-2126-4D20-AC01-BB5D711D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CF5AB2-807B-463E-B6F3-80F9ABEF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AD4C67-0FAE-4158-BB7D-ECD0A649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A32310-8335-4F03-84FA-140F8E37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94B6AB-112C-40E6-8B3A-383C6320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6C6C0F-8BDB-40EE-B115-16E59A7F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D737E0-4484-4F3A-8860-0D1CA8EB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6504AB-8CCE-4C94-847C-DBE986D7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B58D5E-3A21-49B6-BE4E-05527D0C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B3DCC6-15F7-4D93-90BD-493CDE4F6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059B-A96A-4A15-A697-48242CFC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557ECA-30EF-40E0-83FC-13DAC6C44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F85858-D55E-4B95-AC4A-0B1CB1F83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E521FB-85AE-4B19-ABA3-22F65456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5F3D6E-33CA-4D01-B774-AFCEDA2C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F18C78-80EC-4B61-AA79-52BFF266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D95CCE-464E-479D-96CE-7C685668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776FD7-9B7A-4FE0-9BB1-5C485AF0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CFDCB4-CA4A-4542-8DC5-28F44CF5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784AD3-2683-4BB9-964E-CDA95546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79F79E-59F6-453E-BA14-09009E15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D01A-4284-4818-9CCA-FD38C2FC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0222E7-AAD2-41D9-A226-506E97B9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373B35-094C-4915-B0A3-C31F0A6DC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55730B-ABDD-4272-B57E-DD28FF348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BA13F9-165C-4D8D-AE86-207AD2D50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FD8B7E-471D-4DF9-A7B6-7B8E289D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474E63-187E-49E2-BA41-991F2489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3CB181-07F9-4FA2-8480-5A99A7DA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7587B3-030C-4D97-97FF-2EF93A3C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90BFA2-708F-41BD-9C51-07881413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37600C-66D9-4FAA-90E5-253BA27D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7608-F774-43B1-9683-77CB8568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CFC3-766C-4B1E-AEEF-A4D983BB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6590E6-01C7-45BD-ADD0-C0CE05E9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D1332D-2218-453D-9056-47311EF8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511C75-3CE2-4D5C-819A-129FDFC2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D3C15B-FB6C-4B07-A879-9FD702A8F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538F48-66F4-4AFB-89BF-C75C50F44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2ACA48-8EE7-4344-AD17-BEB73F419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177E19-E9F6-402E-ABFB-5CF1015E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66AA86-EED4-4AAF-88C7-E3A12972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0223EE-FB68-4900-95EC-3175D7F6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BB7ED3-6815-4CBB-9C50-A4C54396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DF61-48C1-463F-B4A5-4F339C4A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4D4109-59CA-4B39-9CFE-4E37BD8C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C6E520-99F9-4BEB-8066-0650D2D2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9989F9-7CF9-46E5-86B5-D46B21F7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04FFA0-39A5-4863-AB16-79D5416C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45BF5D-178C-44C5-BE3D-2DDC560F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A6702E-E4B3-4F49-A3BE-58012C221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A50C7E-87ED-4359-8105-F7EC72C6C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956B8F-CF41-4AF8-B160-1781A4885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C9DC31-AC5D-41C9-B28D-5A8739AA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B8B8CB-F513-4D7F-8D96-F601DA5B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1BCA-7D22-4725-B942-6692C5DA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DCB3FD-D86D-4A97-80AE-C42DBBCB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B6BDCC-AD91-4835-AFD6-04617137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AC846F-6BCA-40C9-9D4C-B2DB1D07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23D0B9-FE77-416D-8EAB-0C09DB7F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AB623B-C799-40F6-A475-4D492AFB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BA10B6-88DB-481D-B04A-1AF13C0B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003CCC-EFE5-4F83-B37F-EDC9695B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B9294C-09A1-46CB-96E2-2461A6107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B2D655-E0F0-49E1-BB42-435FA6D40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0EC7AE-6B3A-4559-9EF7-81F0893C0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7346-8EE9-479F-93E6-B81D431D5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3AB4CC-75EE-4CC0-9041-6F10189A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0E8BF5-97EA-4A15-A595-EDAF89EB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7B914B-7A36-4560-A70A-55D23CF5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CBECE5-7B62-4A15-B040-D5979AB1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E77551-863F-4FB7-BDA3-2E51D5C7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7C4263-3236-4DA4-AAC6-3D3B5ED5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332101-AA82-4070-945D-DAAB802A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777FEB-EBE3-474D-B7E1-38D5AEF8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C31266-96E1-4120-BBF0-40AA0E1D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0F7D58-9CD6-463C-8208-25B1CEC95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F237-D712-40FC-A30A-0D9F2FC5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0D3E46-2B6A-436D-953E-C829A7411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5E5FD1-9CE2-456E-9199-749ED9D36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811BF0-990F-4948-A672-4D0BD9B9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B49DFB-27E1-4BF1-9AE9-54D7DE51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8D4313-8992-4E1E-BEC0-25208BE8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48E30B-70F2-4589-A724-E18E5E36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DAF0B3-DB41-48F8-9AAE-76529500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9100DD-C3CD-4B41-B975-8657DD7D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97EEE7-7C5C-46FF-9804-0CB33C3B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711EE9-9641-440A-853F-F8F84653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C2638-DCF8-4ECF-8178-ED11A0400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B43363-4D97-4EBC-B68A-09948958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594FD7-C56A-4834-BCC4-87A68EEDC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4FC2F9-44E2-4104-A8C4-2E1CFC1D8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AA1B3-83C4-428B-9C0F-74BE1B2B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18884-8DEB-4FD9-B74B-261DE0CB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6E1FA-8425-4C43-B437-BD12E412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DA4C7-9B86-4404-9A9C-8B5262CC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6747-D5AD-4120-A0A6-B3883292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C7CDB-45C3-4480-BBE3-CD75ABE4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8E230-1DF6-4579-9148-DEF973AE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CE239-DBC7-4A6B-AC54-96B43AF6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E8515-79C5-4986-BEF5-34FD6165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47293-3E94-4BA8-94E2-69E068A2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B4E9E-000C-4AFA-A94F-F15E6E4F0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2F825-B61E-4D85-85FC-F91D5644D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79066-988A-4F32-B973-8C47175F1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52348-2DE4-4F0A-8004-320380B9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18ABC-78AE-4A9F-A9B3-55DDD050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94D7-C164-4F95-9532-631E2796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385BD-3679-4B10-85DB-D49720E7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80C85-1490-4665-ADB9-1DB0A579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23B35-6917-4692-AD9C-11B43928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6F26C-FC1C-4C5C-B254-0F3D7070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6E72E-D028-4C06-83F5-7B293602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D149F-8016-4B83-AA71-E20FAA69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516C9-E0FB-4D96-8C91-82C22050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9845B-07B2-4AAD-9B3B-3DB5BC85D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73697-D34F-4E6C-8066-1A7D84A0B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7DF4C-47F4-4069-8697-5138F3408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66ED-6A60-4C20-9C29-149026FF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8164C-C57F-4077-90C3-B06D6B53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F5858-2D3B-4089-A6C8-05927423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5D556-A33E-4338-BA92-78EB24BB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5164D-7600-4737-9854-10961B6C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D8AA2-81D9-4C26-8B69-F67B9C29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EC16D-2F2F-4B49-9DE4-458B7C4B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EDFF5-0D73-44C7-831A-41E3689A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89CB5-ED22-4A8A-A9A6-A62C16CB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C5501-9B38-4CEC-AD1C-767B8ECD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C177D-6D3F-4ADE-8F8B-4AE10F445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91B1-F62B-4B8E-9092-1BEB9609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C1610-BA1D-4FF9-A685-97984A2F5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47A72-5B67-41A2-9AAD-E03F7461E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9BD46-BA93-4CB9-BC67-1E7CDE36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E788B-4651-439E-8A85-1D6D15DA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029FF-5AE4-4973-B771-547B5701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6D62B-8791-47E3-9203-C2855844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3DF64-D947-4B42-919D-A3FB0A75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A3A96-2891-4AAB-8538-A4AA7072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0C416-4BEC-43E3-B125-131E338A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9C578-0D5C-4EDC-B093-D39997D4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FDB1-E1CE-4C99-8F15-AAEB90EF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824DF-A0D8-45A3-8FFB-E6636DF8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BECB4-72F7-42C6-8CB6-66FCF2A50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5EFF5-6E06-43C9-9518-D19183A5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33FC8-9408-472B-8A5E-94A052FA6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9D3DB-49A6-44E5-AE39-32559AE5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1E99D-ABFA-4BB5-94A1-78E5BBFE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D23AE-5D77-4EA3-A525-78C048F1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6B9EF-08A2-4FB0-92B8-D53A5C79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B5DB8-BB0B-47DA-84E1-6EA18984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F21A5-6770-4AF8-88AB-DD8C61E7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E070-0074-441D-9AEA-E757121F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628A5-E18B-40AB-BD4F-09EA9614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0EFB5-1541-4A7F-BBEB-26B7A894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AAA98-DF95-4F4A-B274-265E4C50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4E28A-ABAB-4D70-AE7C-DCBCB8AE5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F312B-B138-44FA-A91A-A65D79CF3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FCC36-E9A5-4311-9C3E-4600D0433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65711-C614-46E6-9FC9-FEBD5DD6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42792-8E8E-4514-B6DE-5771D564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69695-09F1-4B01-8BB9-F78E8622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419BC-46D3-4E86-B7F8-508B6226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F379-CC40-4E4E-9744-8622696D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1C856-29AB-4D3E-81AC-D4DD81EE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133C0-E62F-449E-9C8C-C1DADDAF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2FC2B-CCC1-419C-A5E2-52E74EF9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EA23F-5C3F-4DA8-A678-B7FEDE64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4A0FF-ABC9-4BB0-97F8-521EB8CB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A0122-C328-4EE8-96A2-33931BEA2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4383E-604F-4DBA-A0FD-AC08DA60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56C01-D08A-428B-B033-5EA07EEB5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86A3F-1A7A-4160-BADB-2541B201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068D3-929B-443E-8B9D-01882F61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A8A1-C34E-4144-AD82-59B753D0A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9C85-3BC7-4CED-A247-ABFB4D0D08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4ABC-5415-44D2-8BD8-ACF48DD551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8232-EDEF-4486-8824-32731E6BF9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C1BB-2FAD-4929-8DA3-A82FAC3602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3A5D-B131-40D9-B426-3446B6EF5B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3EF0-E64E-4B63-B319-4BF24E4A67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9B06-032C-484A-851A-0051F73B8D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E43A-B778-4882-87A2-CAF655975D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99E9-7530-43E8-907F-34ADBEB7A3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1BCF-7B93-49A8-A83E-77244BEF67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0334-4A41-4370-B2B1-4328E0D425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1738-62B6-4271-A623-1B25EFDCB4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1931-089A-487B-9401-4B16658536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178D-02D8-4DF6-9B45-EBC37809FE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F01E-E710-4314-8701-954158F8F1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6AA1-9505-460D-858C-4A380C2774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365B-40E2-4AB4-A550-975DB8B169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A4A5-00F1-438C-8891-B1144E2E73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FF13-18AE-4CE1-8B55-DDC7503E69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E0B8-9740-4688-A5C1-0F9B9050D1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6567-0F83-4260-93AC-732AFE58C6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A1EE-88A9-4A58-AFA4-A75D5E9DD0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E070-94FF-41B2-B5DB-1D91527B71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1D44-2B24-413A-9C5F-B7F84983B4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2E3F-224C-4B53-B4F0-2D4B0A8A40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0005-1AF8-4FE8-8BB2-A83E17905F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75F5-7071-4522-B85D-98050A542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D599-BB40-4D89-8B29-1A7BB3D24F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7B45-3627-4D5C-89D0-D6FD41BE23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806C-3FF8-48A0-B307-E4B6C3BC7D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B8A5-9ADC-4422-BBB5-EC5E90D3BD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702C-506A-49B8-A8C9-6F06017AF8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D80B-7BF4-4136-97AE-476F610C40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AF1B-7607-4BD4-A52D-9BC23FB12A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814D-6072-4415-B535-ADE4B755E1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10CB-4785-4196-AC37-5DB94286A0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3740-1D5A-4E08-97DF-9CCEF794F0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33BF-2B80-4FF7-BAF9-42D666126B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C92C-06FA-48B1-943D-E17371DEB4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838600" y="3062160"/>
            <a:ext cx="346680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47520" y="1442880"/>
            <a:ext cx="9048960" cy="39722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258920" y="2881440"/>
            <a:ext cx="1728720" cy="312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3995640" y="2881440"/>
            <a:ext cx="1728720" cy="312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6962760" y="2895480"/>
            <a:ext cx="1728720" cy="3128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1201680" y="3255840"/>
            <a:ext cx="1728720" cy="312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4067280" y="3241800"/>
            <a:ext cx="1728720" cy="312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6948360" y="3255840"/>
            <a:ext cx="1729080" cy="312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9"/>
          <a:stretch/>
        </p:blipFill>
        <p:spPr>
          <a:xfrm>
            <a:off x="1403280" y="3616200"/>
            <a:ext cx="1728720" cy="312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10"/>
          <a:stretch/>
        </p:blipFill>
        <p:spPr>
          <a:xfrm>
            <a:off x="4110120" y="3616200"/>
            <a:ext cx="1728720" cy="312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11"/>
          <a:stretch/>
        </p:blipFill>
        <p:spPr>
          <a:xfrm>
            <a:off x="770040" y="4941720"/>
            <a:ext cx="431640" cy="384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12"/>
          <a:stretch/>
        </p:blipFill>
        <p:spPr>
          <a:xfrm>
            <a:off x="3262320" y="4941720"/>
            <a:ext cx="43164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214200" y="1604880"/>
            <a:ext cx="8713800" cy="36482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900000" y="269388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900000" y="30686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4"/>
          <a:stretch/>
        </p:blipFill>
        <p:spPr>
          <a:xfrm>
            <a:off x="900000" y="3429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5"/>
          <a:stretch/>
        </p:blipFill>
        <p:spPr>
          <a:xfrm>
            <a:off x="900000" y="38037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6"/>
          <a:stretch/>
        </p:blipFill>
        <p:spPr>
          <a:xfrm>
            <a:off x="900000" y="41781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7"/>
          <a:stretch/>
        </p:blipFill>
        <p:spPr>
          <a:xfrm>
            <a:off x="900000" y="45370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8"/>
          <a:stretch/>
        </p:blipFill>
        <p:spPr>
          <a:xfrm>
            <a:off x="900000" y="4927680"/>
            <a:ext cx="3589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1" name="图片 1" descr=""/>
          <p:cNvPicPr/>
          <p:nvPr/>
        </p:nvPicPr>
        <p:blipFill>
          <a:blip r:embed="rId1"/>
          <a:stretch/>
        </p:blipFill>
        <p:spPr>
          <a:xfrm>
            <a:off x="165240" y="1035000"/>
            <a:ext cx="8475480" cy="2838600"/>
          </a:xfrm>
          <a:prstGeom prst="rect">
            <a:avLst/>
          </a:prstGeom>
          <a:ln w="0">
            <a:noFill/>
          </a:ln>
        </p:spPr>
      </p:pic>
      <p:pic>
        <p:nvPicPr>
          <p:cNvPr id="1052" name="图片 2" descr=""/>
          <p:cNvPicPr/>
          <p:nvPr/>
        </p:nvPicPr>
        <p:blipFill>
          <a:blip r:embed="rId2"/>
          <a:stretch/>
        </p:blipFill>
        <p:spPr>
          <a:xfrm>
            <a:off x="165240" y="4106880"/>
            <a:ext cx="86850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2:34:32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